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1520-25AA-44D7-839F-761ACFCC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999F-EB4C-4A02-B08E-311259CC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852D-726E-4E14-9BA1-8E2C6431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70E-2CE0-407E-A294-3327C50F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BE3B-B770-4656-8D7A-17D3A5A4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A77D-1616-45FE-ABF5-04903639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FB03-0A0E-4ACF-B815-3104D93C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92F7-653E-4E53-B173-0490502F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D7A9-EB25-4B4E-BBE7-1CCE1AD1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6BE6-B593-4C16-B43F-B247A14B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089F-CD75-4A99-85DF-92D3D9A3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411-5EC6-4CE0-AFEC-A13B502C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F1DA-A178-401D-807B-4C832C07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5AF6-F59C-4F59-A05A-FD3B5C9D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D6F4-5668-48C5-9550-4F14BC0D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D97D-9AFC-4750-B75E-83BE2329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1D61-ECC6-4F34-8802-BD1CB58E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1E0A-9DFA-4ADD-BA5A-064ED2B3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CD8B-17EC-4B42-A086-5FE606C2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9835-D061-4A9C-8A9D-9EE2DF1A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F30A-59B6-4BED-85D3-6D6AFD0D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5B80-9ECF-47B8-B5CB-4A7D0752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98D7-FB96-4AED-A83B-5A4B6E0C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E207-F872-4340-9A26-B53DC8F5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0A27-D539-433F-858E-346C45B272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1D39-6CF9-49DA-8ADB-DE0FB26BC5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history.com/minisite.do?content_type=Minisite_Video_Clips&amp;display_order=1&amp;content_type_id=54612&amp;mini_id=51103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3.2:  Fighting the Civil W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ancipation Proclamation r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5.  Emancipation Procla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aves are to be freed as part of a “weapon of war” just like any other resource - only in the seceding stat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ceived as a war to free slaves - Upset both North and Sou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th now unwilling to comprom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File:EMANCI4.jpg"/>
          <p:cNvPicPr/>
          <p:nvPr/>
        </p:nvPicPr>
        <p:blipFill>
          <a:blip r:embed="rId1"/>
          <a:stretch/>
        </p:blipFill>
        <p:spPr>
          <a:xfrm>
            <a:off x="4648320" y="1971720"/>
            <a:ext cx="449568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6.  conscrip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ra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red on both sides due to heavy casua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ch were exem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ft riots occurred in protest to the dra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File:U.S. draft lottery.jpg"/>
          <p:cNvPicPr/>
          <p:nvPr/>
        </p:nvPicPr>
        <p:blipFill>
          <a:blip r:embed="rId1"/>
          <a:stretch/>
        </p:blipFill>
        <p:spPr>
          <a:xfrm>
            <a:off x="4724280" y="1981080"/>
            <a:ext cx="38862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7.  Life During W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   A.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ld fight on Unions side; Army/Nav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  Wo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r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ni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th rate impro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aged fa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1143000"/>
            <a:ext cx="457200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.  Sold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90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liness due to lack of sani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90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d di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90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 medical 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90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724280" y="394344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B.  The Turning Poin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ttle of Gettysburg, Pa.,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uly 186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ing point for the Un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ederate soldiers retreat under command of Gen.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3336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41120"/>
            <a:ext cx="8915400" cy="659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2.  Damage of Gettysbur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51,000 casualties; killed or wou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ederacy never recov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7320" y="1981080"/>
            <a:ext cx="380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0384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ettysburg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ddr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score and seven years ago…” p.13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ettysburg Address: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“Remaking America”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04760" y="2331720"/>
            <a:ext cx="69339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We are no longer a collection of states but a single n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3.  Vicksburg (July 4) and Port Hudson (July 9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ports were captured b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. Ulysses S. Grant (future president)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sults from th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38280" y="3657600"/>
            <a:ext cx="426744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 algn="ctr">
              <a:buClr>
                <a:srgbClr val="ffcc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Early Stages: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 First Bloodshed-Bull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61: Union defeat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Confederate soldiers thought war was over and went ho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 Should have continued on to D.C. but they were tired!! (What if…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’s morale in the south right about 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nt and Sherman’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otal W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1" name="" descr="General Grant Portrait"/>
          <p:cNvPicPr/>
          <p:nvPr/>
        </p:nvPicPr>
        <p:blipFill>
          <a:blip r:embed="rId1"/>
          <a:stretch/>
        </p:blipFill>
        <p:spPr>
          <a:xfrm>
            <a:off x="996840" y="1981080"/>
            <a:ext cx="3176640" cy="4114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W. T. Sherman"/>
          <p:cNvPicPr/>
          <p:nvPr/>
        </p:nvPicPr>
        <p:blipFill>
          <a:blip r:embed="rId2"/>
          <a:stretch/>
        </p:blipFill>
        <p:spPr>
          <a:xfrm>
            <a:off x="4700520" y="2050920"/>
            <a:ext cx="345924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4.  Concept of Total W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Everything is g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35000" indent="-57780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thing that can be used by southern military is to be destroy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35000" indent="-57780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down will of the 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5.  Sherman’s March to the Se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al: to physically and psychologically destroy the Sou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 Grant in Richmond, V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history.com/minisite.do?content_type=Minisite_Video_Clips&amp;display_order=1&amp;content_type_id=54612&amp;mini_id=511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herman’s March to the S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0992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864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ncoln is reelected!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Image:Abraham Lincoln head on shoulders photo portrait.jpg"/>
          <p:cNvPicPr/>
          <p:nvPr/>
        </p:nvPicPr>
        <p:blipFill>
          <a:blip r:embed="rId1"/>
          <a:stretch/>
        </p:blipFill>
        <p:spPr>
          <a:xfrm>
            <a:off x="2971800" y="2666880"/>
            <a:ext cx="283860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6.  Lee Surrenders to Grant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t Appomattox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rch 186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0" y="2201760"/>
            <a:ext cx="9144000" cy="2455920"/>
            <a:chOff x="0" y="2201760"/>
            <a:chExt cx="9144000" cy="2455920"/>
          </a:xfrm>
        </p:grpSpPr>
        <p:sp>
          <p:nvSpPr>
            <p:cNvPr id="165" name=""/>
            <p:cNvSpPr/>
            <p:nvPr/>
          </p:nvSpPr>
          <p:spPr>
            <a:xfrm>
              <a:off x="0" y="2201760"/>
              <a:ext cx="5357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0" y="2201760"/>
              <a:ext cx="9144000" cy="2455920"/>
              <a:chOff x="0" y="2201760"/>
              <a:chExt cx="9144000" cy="245592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2201760"/>
                <a:ext cx="3795840" cy="245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2201760"/>
                <a:ext cx="9144000" cy="21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3600" spc="-1" strike="noStrike">
                    <a:solidFill>
                      <a:srgbClr val="ffffff"/>
                    </a:solidFill>
                    <a:latin typeface="Arial"/>
                  </a:rPr>
                  <a:t> 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9" name="" descr="The McLean House at Appomattox Court House National Historical Park."/>
          <p:cNvPicPr/>
          <p:nvPr/>
        </p:nvPicPr>
        <p:blipFill>
          <a:blip r:embed="rId1"/>
          <a:stretch/>
        </p:blipFill>
        <p:spPr>
          <a:xfrm>
            <a:off x="1447920" y="2209680"/>
            <a:ext cx="6553080" cy="43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7.  The Nation Chang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Polit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35000" indent="-57780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s rights vs. Federal govt issues continued; secession never considered an option ag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35000" indent="-57780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deral govt’s power increased; more of a say  in individual citizens (taxes,conscription laws, suspension of habeas corpu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7.  The Nation Chang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53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  Economic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3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.  No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4560" indent="-57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iness was fabulous due to factories supplying the war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4560" indent="-57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me taxes introduced to pay for war then ended afterw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4560" indent="-57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ges still 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3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.  Sou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4560" indent="-57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astat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4560" indent="-57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bor system had to be revamp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4560" indent="-57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d and livestock destroyed; fa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4560" indent="-57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R and machinery destroy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7.  The Nation Chang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 Technologically - “Modern Wa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f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ll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 gren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d m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onclad sh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2.  The Naval W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 Blockade: eff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 South countered w/blockade run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 Union takes control of Port New Orl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71600" y="2717640"/>
            <a:ext cx="64008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7.  The Nation Chang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  Social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mendment: ends sla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7320" y="1981080"/>
            <a:ext cx="380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grpSp>
          <p:nvGrpSpPr>
            <p:cNvPr id="180" name=""/>
            <p:cNvGrpSpPr/>
            <p:nvPr/>
          </p:nvGrpSpPr>
          <p:grpSpPr>
            <a:xfrm>
              <a:off x="7200" y="5400"/>
              <a:ext cx="9128160" cy="6846120"/>
              <a:chOff x="7200" y="5400"/>
              <a:chExt cx="9128160" cy="6846120"/>
            </a:xfrm>
          </p:grpSpPr>
          <p:sp>
            <p:nvSpPr>
              <p:cNvPr id="181" name=""/>
              <p:cNvSpPr/>
              <p:nvPr/>
            </p:nvSpPr>
            <p:spPr>
              <a:xfrm>
                <a:off x="7200" y="5400"/>
                <a:ext cx="91281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200" y="5400"/>
                <a:ext cx="9128160" cy="684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noFill/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00600" y="1523880"/>
            <a:ext cx="367200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57160" y="925560"/>
            <a:ext cx="742968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John Wilkes Boot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6 y/o a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ril 14, 1865 shoots Lincoln in the head 5 days after Lee surrend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ril 15 Lincoln 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7320" y="1981080"/>
            <a:ext cx="380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Image:Jwbooth.jpeg"/>
          <p:cNvPicPr/>
          <p:nvPr/>
        </p:nvPicPr>
        <p:blipFill>
          <a:blip r:embed="rId1"/>
          <a:stretch/>
        </p:blipFill>
        <p:spPr>
          <a:xfrm>
            <a:off x="5867280" y="1600200"/>
            <a:ext cx="267516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8080" y="3240"/>
            <a:ext cx="760104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678168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6119640" cy="49352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itchen Du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aconda Plan (PC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5" name="" descr="Image:Scott-anaconda.jpg"/>
          <p:cNvPicPr/>
          <p:nvPr/>
        </p:nvPicPr>
        <p:blipFill>
          <a:blip r:embed="rId1"/>
          <a:stretch/>
        </p:blipFill>
        <p:spPr>
          <a:xfrm>
            <a:off x="1143000" y="1463760"/>
            <a:ext cx="711216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14400" y="180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14400" y="1806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14400" y="1806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14400" y="1806480"/>
            <a:ext cx="44658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42560" tIns="-178920" bIns="-882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814400" y="1806480"/>
            <a:ext cx="8742240" cy="360"/>
            <a:chOff x="1814400" y="1806480"/>
            <a:chExt cx="8742240" cy="360"/>
          </a:xfrm>
        </p:grpSpPr>
        <p:sp>
          <p:nvSpPr>
            <p:cNvPr id="100" name=""/>
            <p:cNvSpPr/>
            <p:nvPr/>
          </p:nvSpPr>
          <p:spPr>
            <a:xfrm>
              <a:off x="1958760" y="1806480"/>
              <a:ext cx="84535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14400" y="1806480"/>
              <a:ext cx="8742240" cy="360"/>
            </a:xfrm>
            <a:prstGeom prst="rect">
              <a:avLst/>
            </a:prstGeom>
            <a:solidFill>
              <a:srgbClr val="ffffff"/>
            </a:solidFill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386400" y="1806480"/>
            <a:ext cx="3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The British steamer and Union blockage runner, Dee in the harbor at Hamilton, Bermuda, in 1863.  CORBIS"/>
          <p:cNvPicPr/>
          <p:nvPr/>
        </p:nvPicPr>
        <p:blipFill>
          <a:blip r:embed="rId1"/>
          <a:stretch/>
        </p:blipFill>
        <p:spPr>
          <a:xfrm>
            <a:off x="1066680" y="1676520"/>
            <a:ext cx="7848720" cy="4701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88888"/>
                </a:solidFill>
                <a:latin typeface="Verdana"/>
                <a:ea typeface="Times New Roman"/>
              </a:rPr>
              <a:t>The British steamer and Union blockage runner, </a:t>
            </a:r>
            <a:r>
              <a:rPr b="1" i="1" lang="en-US" sz="1800" spc="-1" strike="noStrike">
                <a:solidFill>
                  <a:srgbClr val="888888"/>
                </a:solidFill>
                <a:latin typeface="Verdana"/>
                <a:ea typeface="Times New Roman"/>
              </a:rPr>
              <a:t>Dee</a:t>
            </a:r>
            <a:r>
              <a:rPr b="1" lang="en-US" sz="1800" spc="-1" strike="noStrike">
                <a:solidFill>
                  <a:srgbClr val="888888"/>
                </a:solidFill>
                <a:latin typeface="Verdana"/>
                <a:ea typeface="Times New Roman"/>
              </a:rPr>
              <a:t> in the harbor at Hamilton, Bermuda, in 1863.</a:t>
            </a:r>
            <a:r>
              <a:rPr b="0" lang="en-US" sz="4400" spc="-1" strike="noStrike">
                <a:solidFill>
                  <a:srgbClr val="888888"/>
                </a:solidFill>
                <a:latin typeface="Verdana"/>
                <a:ea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3.  Battle at Shiloh (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4/1862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   &gt;23,000 casual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   Admiral Farragut seizes Port New Orleans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/186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.   Union on their way to controlling the Mississippi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191120" y="1905120"/>
            <a:ext cx="495288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4.  Battle at Antietam (9/186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est battle yet; &gt;26,000 casual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on saves Washington D.C from Lee and confeder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itish no longer willing to support the Confederacy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coln realizes slavery must end once and for all = Emancipation Procla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57200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892920" cy="5121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federate Soldiers @ Antieta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72388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638172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09-09T19:57:33Z</dcterms:modified>
  <cp:revision>19</cp:revision>
  <dc:subject/>
  <dc:title>PowerPoint Presentation</dc:title>
</cp:coreProperties>
</file>